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6CA4-6A47-49C3-9363-0CA112EAE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D38E-18D5-411F-B317-79208CC5E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1EE6-A391-4DEC-AC41-103F60BC0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C51B-51C2-450C-B793-6317F6604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FA2D6-A3A2-4185-8CA3-289592974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F3053-26D4-4DE1-8FF7-F73CB8031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DE95C-B0C1-49F8-A834-104841F42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1E1F6-122B-4D9B-B2A2-606D16053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B11FD-DB9B-4D79-BBE5-41014E1A6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FB9F6-2508-4B1C-B34B-DF2C41CD8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C69FA-4348-4120-8068-D016F7824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EC40-74F4-4B3F-B154-5E44B88E6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617D8-9963-402F-BFB9-1675C816B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B46FC-8CBA-46A6-9C53-17E3855A4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80D3B-6B5F-4CA5-84CE-7FEDCD6D5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4AD72-45C8-45CC-96FC-456122FB0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55B27-B253-47C7-B321-50519168C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C1E2-CFAD-4723-85C5-69362998D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139F-1578-483C-B755-32F7C1784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F1EC-A7CC-49AD-B825-F292AE53E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CDD8-1DCD-46D5-86CF-EDAD640B5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9430-4705-4E49-B4A0-9415AEF00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1891-07BC-4DDE-AFBE-E845638B7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13FA-69E5-47EC-8AA1-8A75E9A75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47390-645E-43A4-94BE-DE254C04CBF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6240"/>
            <a:ext cx="6629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461CA-080D-45F0-A6F2-4ABE91F0E0B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1332000" y="1638360"/>
          <a:ext cx="4214880" cy="488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638360"/>
                    <a:ext cx="4214880" cy="48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15640" y="342720"/>
            <a:ext cx="7488360" cy="1150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«СТРУКТУРА МУНИЦИПАЛЬНОГО ВНУТРЕННЕГО ДОЛГА НА 2017 ГОД И ПЛАНОВЫЙ ПЕРИОД 2018-2019 ГГ. (млн.руб.)»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6-12-23T00:21:30Z</dcterms:modified>
  <cp:revision>39</cp:revision>
  <dc:subject/>
  <dc:title>Структура собственных доходов на 2016 год бюджета Дальнереченского городского округа</dc:title>
</cp:coreProperties>
</file>